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481E-012F-47D2-ADE7-46F70DF2C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0E4E-B031-4C4F-BBC9-84E38F758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1BA9-1F7E-4268-8C0C-0FFA0EFDC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FBF7-1202-4CB1-A8E6-4FC4589F5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C5B9-7B41-4C73-BFAF-F31FA9A00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1591-E058-44DD-95DB-95F148A8E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C63A-0A59-4A5C-A123-AA94F759F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DA05-BDA9-4F28-8437-0E53D0A46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81B9-8E29-4535-9468-CCED31007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7C1D-CF44-4AA9-908E-ED264F961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D8D75D-A5B7-476D-94B5-571407AE9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DD43FF-92C0-43A1-B20F-57E8B39F3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6DB0CD-5116-41F6-A7DE-188C28EA76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D72DA6-6470-466E-870F-304692E0AF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AD7E2-5685-493F-BA92-2412670D5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29DE9-1BCD-4526-B252-3B82D0029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AD83C-EB17-4324-A64A-71CD1755F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14264-215F-40ED-81A3-248190DF5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224DF-6EA5-4F95-85B2-E2F04260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14B4E-85CE-4F94-BE92-B6C1866FC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4C38B-0EFA-4643-BF3A-4DCCEE797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3A8D07-10B7-479C-831B-AA9B3B351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12F0E-B38A-492E-92A9-C124CC9B6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7D575-1686-4039-BA7D-6B88C0029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5F305-A2FF-4FE5-A254-2C618F19F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A3B62-9542-4805-A545-CC6BBC9BB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677D5-1EE1-4104-AA07-6CAC288C6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607E3C-4DD3-4F94-B35B-0E2AA740D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813144-60A6-4350-9BD1-8F43E4CEF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85BBCB-3DFD-4EBD-BF06-67DE2B72A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5C1E87-F7BC-440B-8601-C3C2D13EC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3B86A-C857-454C-95A0-60DE13203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E48B15-FA50-438A-97DC-BE9BDEED6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9B43C-08C3-42BF-A7B7-B0F1735D43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1E42-133C-41B1-8B98-E7AEB2B35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CE91-4949-4F0E-869E-AEEBC003F2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1E34-2A07-432B-981D-D30FAF7A4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ftware Testing – 2</a:t>
            </a:r>
            <a:endParaRPr b="0" lang="en-US" sz="5000" spc="-1" strike="noStrike">
              <a:solidFill>
                <a:srgbClr val="000000"/>
              </a:solidFill>
              <a:latin typeface="Arial"/>
            </a:endParaRPr>
          </a:p>
        </p:txBody>
      </p:sp>
      <p:sp>
        <p:nvSpPr>
          <p:cNvPr id="114"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2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F6DA-A22C-4346-88E0-FC0F0620A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Principles - 3</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ustive testing is not possible</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ath permutations for even a moderately sized program is exceptionally large. It is impossible to execute every combination of paths during testing. It is possible, however, to adequately cover program logic and to ensure that all conditions in the component-level design have been exerci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Principles - 4</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most effective, testing should be conducted by an independent third party</a:t>
            </a:r>
            <a:endParaRPr b="0" lang="en-US" sz="3200" spc="-1" strike="noStrike">
              <a:solidFill>
                <a:srgbClr val="000000"/>
              </a:solidFill>
              <a:latin typeface="Arial"/>
            </a:endParaRPr>
          </a:p>
          <a:p>
            <a:pPr lvl="1" marL="690840" indent="-2656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testing techniques, as we will discuss them, and the software engineer who created the software system is not the best person to conducts all tests for the software. For certain kinds of testing, the best results are obtained by conducting these tests by professional testers</a:t>
            </a:r>
            <a:endParaRPr b="0" lang="en-US" sz="28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0E0F-6479-4740-8481-AAE595DB7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say that software testing is a destructive process (psychologically speaking) and not a constructive process, because a software test will result in the breaking of software under te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on the other hand is a constructiv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26C5-C524-40D6-80FA-5FCCF3CE5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nge in thinking can help test planners and test designers to create effective test ca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ncept also helps software designers and programmers to design and code software systems, which are testable. So, what is this testability?</a:t>
            </a:r>
            <a:endParaRPr b="0" lang="en-US" sz="3200" spc="-1" strike="noStrike">
              <a:solidFill>
                <a:srgbClr val="000000"/>
              </a:solidFill>
              <a:latin typeface="Arial"/>
            </a:endParaRPr>
          </a:p>
        </p:txBody>
      </p:sp>
      <p:sp>
        <p:nvSpPr>
          <p:cNvPr id="1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AE0E-B76B-45B3-8EB5-33A88A1D2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6520-E762-4E55-A7C1-AD5B2BC4A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ability - 1</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testability is simply how easily [a computer program] can be test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esting is so difficult, it pays to know what can be done to streamline i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ccurs as a result of good design.  Data design, architecture, interfaces, and component-level detail can either facilitate testing or make it diffic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ability - 2</a:t>
            </a: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certain metrics that could be used to measure testability of a software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lso call them the characteristics or attributes of testable software. These characteristics or attributes are important from quality assurance’s point of view</a:t>
            </a:r>
            <a:endParaRPr b="0" lang="en-US" sz="3200" spc="-1" strike="noStrike">
              <a:solidFill>
                <a:srgbClr val="000000"/>
              </a:solidFill>
              <a:latin typeface="Arial"/>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C9D0-B9A6-4FC7-AB37-7CB138BFC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Testable Software</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ability</a:t>
            </a:r>
            <a:endParaRPr b="0" lang="en-US" sz="3200" spc="-1" strike="noStrike">
              <a:solidFill>
                <a:srgbClr val="000000"/>
              </a:solidFill>
              <a:latin typeface="Arial"/>
            </a:endParaRPr>
          </a:p>
        </p:txBody>
      </p:sp>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C740-BBE6-4E66-A4B0-AA0113DEE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bility</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The better it works, the more efficiently it can be tested</a:t>
            </a:r>
            <a:r>
              <a:rPr b="0" lang="en-US" sz="3200" spc="-1" strike="noStrike">
                <a:solidFill>
                  <a:srgbClr val="000000"/>
                </a:solidFill>
                <a:latin typeface="Arial"/>
              </a:rPr>
              <a:t>”</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stem has few bugs (bugs add analysis and reporting overhead to the test process)</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ugs block the execution of tests</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 evolves in functional stages (allows simultaneous development and testing)</a:t>
            </a:r>
            <a:endParaRPr b="0" lang="en-US" sz="3200" spc="-1" strike="noStrike">
              <a:solidFill>
                <a:srgbClr val="000000"/>
              </a:solidFill>
              <a:latin typeface="Arial"/>
            </a:endParaRPr>
          </a:p>
        </p:txBody>
      </p:sp>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DDD1-9652-459F-B49F-2874146BA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bility</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What you see is what you test</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ct output is generated for each inpu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tates and variables are visible or queriable (e.g., transaction log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actors affecting the output are visible</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output is easily identified</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code is accessible</a:t>
            </a:r>
            <a:endParaRPr b="0" lang="en-US" sz="3200" spc="-1" strike="noStrike">
              <a:solidFill>
                <a:srgbClr val="000000"/>
              </a:solidFill>
              <a:latin typeface="Arial"/>
            </a:endParaRPr>
          </a:p>
        </p:txBody>
      </p:sp>
      <p:sp>
        <p:nvSpPr>
          <p:cNvPr id="1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7CCB-453B-444B-B25A-3C5EFDFD7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ability - 1</a:t>
            </a: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The better we can control the software, the more testing can be automated and optimiz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ssible outputs can be generated through some combination of inpu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ode is executable through some combination of input</a:t>
            </a:r>
            <a:endParaRPr b="0" lang="en-US" sz="3200" spc="-1" strike="noStrike">
              <a:solidFill>
                <a:srgbClr val="000000"/>
              </a:solidFill>
              <a:latin typeface="Arial"/>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2813-3B18-436C-B916-7F21A8DFC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ll continue our discussion on software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talk about testing objectives, testing principles, characteristics of testable software, and we’ll end this lecture with an introduction of test case design</a:t>
            </a:r>
            <a:endParaRPr b="0" lang="en-US" sz="3200" spc="-1" strike="noStrike">
              <a:solidFill>
                <a:srgbClr val="000000"/>
              </a:solidFill>
              <a:latin typeface="Arial"/>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65DC-678A-4639-8D07-4FD760A3C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ability - 2</a:t>
            </a:r>
            <a:endParaRPr b="0" lang="en-US" sz="4400" spc="-1" strike="noStrike">
              <a:solidFill>
                <a:srgbClr val="000000"/>
              </a:solidFill>
              <a:latin typeface="Arial"/>
            </a:endParaRPr>
          </a:p>
        </p:txBody>
      </p:sp>
      <p:sp>
        <p:nvSpPr>
          <p:cNvPr id="17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nd hardware states and variable can be controlled directly by the test engine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and output formats are consistent and structu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can be conveniently specified, automated, and reproduced</a:t>
            </a:r>
            <a:endParaRPr b="0" lang="en-US" sz="3200" spc="-1" strike="noStrike">
              <a:solidFill>
                <a:srgbClr val="000000"/>
              </a:solidFill>
              <a:latin typeface="Arial"/>
            </a:endParaRPr>
          </a:p>
        </p:txBody>
      </p:sp>
      <p:sp>
        <p:nvSpPr>
          <p:cNvPr id="1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44CB-E419-4C3B-A674-59FF160F0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12A8-9C81-48D0-A9DF-BF2FBC4E9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ability</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lvl="1" marL="343080" indent="-343080">
              <a:lnSpc>
                <a:spcPct val="90000"/>
              </a:lnSpc>
              <a:spcBef>
                <a:spcPts val="799"/>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By controlling the scope of testing, we can more quickly isolate problems and perform smarter retest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ftware system is built from independent modu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modules can be tested independ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461E-7808-4E42-8210-18852C7F8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city - 1</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The less there is to test, the more quickly we can test it</a:t>
            </a:r>
            <a:r>
              <a:rPr b="0" lang="en-US" sz="3200" spc="-1" strike="noStrike">
                <a:solidFill>
                  <a:srgbClr val="000000"/>
                </a:solidFill>
                <a:latin typeface="Arial"/>
              </a:rPr>
              <a: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 simplicity (e.g., the feature set is the minimum necessary to meet requirement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 simplicity (e.g., architecture is modularized to limit the propagation of fa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city - 2</a:t>
            </a: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simplicity (e.g., a coding standard is adopted for ease of inspection and maintenance)</a:t>
            </a:r>
            <a:endParaRPr b="0" lang="en-US" sz="3200" spc="-1" strike="noStrike">
              <a:solidFill>
                <a:srgbClr val="000000"/>
              </a:solidFill>
              <a:latin typeface="Arial"/>
            </a:endParaRPr>
          </a:p>
        </p:txBody>
      </p:sp>
      <p:sp>
        <p:nvSpPr>
          <p:cNvPr id="1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7F65-DC84-4E39-93FF-2441956E3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ility</a:t>
            </a:r>
            <a:endParaRPr b="0" lang="en-US" sz="4400" spc="-1" strike="noStrike">
              <a:solidFill>
                <a:srgbClr val="000000"/>
              </a:solidFill>
              <a:latin typeface="Arial"/>
            </a:endParaRPr>
          </a:p>
        </p:txBody>
      </p:sp>
      <p:sp>
        <p:nvSpPr>
          <p:cNvPr id="182" name=""/>
          <p:cNvSpPr txBox="1"/>
          <p:nvPr/>
        </p:nvSpPr>
        <p:spPr>
          <a:xfrm>
            <a:off x="457200" y="1980720"/>
            <a:ext cx="8229600" cy="3886200"/>
          </a:xfrm>
          <a:prstGeom prst="rect">
            <a:avLst/>
          </a:prstGeom>
          <a:noFill/>
          <a:ln w="0">
            <a:noFill/>
          </a:ln>
        </p:spPr>
        <p:txBody>
          <a:bodyPr anchor="t">
            <a:normAutofit fontScale="99000"/>
          </a:bodyPr>
          <a:p>
            <a:pPr lvl="1" marL="339480" indent="-339480">
              <a:spcBef>
                <a:spcPts val="799"/>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The fewer the changes, the fewer the disruptions to testing</a:t>
            </a:r>
            <a:r>
              <a:rPr b="0" lang="en-US" sz="3200" spc="-1" strike="noStrike">
                <a:solidFill>
                  <a:srgbClr val="000000"/>
                </a:solidFill>
                <a:latin typeface="Arial"/>
              </a:rPr>
              <a:t>”</a:t>
            </a:r>
            <a:endParaRPr b="0" lang="en-US" sz="3200" spc="-1" strike="noStrike">
              <a:solidFill>
                <a:srgbClr val="000000"/>
              </a:solidFill>
              <a:latin typeface="Arial"/>
            </a:endParaRPr>
          </a:p>
          <a:p>
            <a:pPr lvl="1" marL="339480" indent="-339480">
              <a:spcBef>
                <a:spcPts val="799"/>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the software are infrequent</a:t>
            </a:r>
            <a:endParaRPr b="0" lang="en-US" sz="3200" spc="-1" strike="noStrike">
              <a:solidFill>
                <a:srgbClr val="000000"/>
              </a:solidFill>
              <a:latin typeface="Arial"/>
            </a:endParaRPr>
          </a:p>
          <a:p>
            <a:pPr lvl="1" marL="339480" indent="-339480">
              <a:spcBef>
                <a:spcPts val="799"/>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the software are controlled</a:t>
            </a:r>
            <a:endParaRPr b="0" lang="en-US" sz="3200" spc="-1" strike="noStrike">
              <a:solidFill>
                <a:srgbClr val="000000"/>
              </a:solidFill>
              <a:latin typeface="Arial"/>
            </a:endParaRPr>
          </a:p>
          <a:p>
            <a:pPr lvl="1" marL="339480" indent="-339480">
              <a:spcBef>
                <a:spcPts val="799"/>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the software do not invalidate existing tests</a:t>
            </a:r>
            <a:endParaRPr b="0" lang="en-US" sz="3200" spc="-1" strike="noStrike">
              <a:solidFill>
                <a:srgbClr val="000000"/>
              </a:solidFill>
              <a:latin typeface="Arial"/>
            </a:endParaRPr>
          </a:p>
          <a:p>
            <a:pPr lvl="1" marL="339480" indent="-339480">
              <a:spcBef>
                <a:spcPts val="799"/>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ftware recovers well from failure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ECE2-43AA-4CC4-9FAC-09F112641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F8A3-C7B0-40DE-9D74-C50D73578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ability - 1</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8585e0"/>
                </a:solidFill>
                <a:latin typeface="Arial"/>
              </a:rPr>
              <a:t>The more information we have, the smarter we will test</a:t>
            </a:r>
            <a:r>
              <a:rPr b="0" lang="en-US" sz="3200" spc="-1" strike="noStrike">
                <a:solidFill>
                  <a:srgbClr val="000000"/>
                </a:solidFill>
                <a:latin typeface="Arial"/>
              </a:rPr>
              <a:t>”</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is well understood</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cies between internal, external, and shared components is well understood</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the design are communicated</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ocumentation is instantly accessible</a:t>
            </a:r>
            <a:endParaRPr b="0" lang="en-US" sz="32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ability - 2</a:t>
            </a:r>
            <a:endParaRPr b="0" lang="en-US" sz="4400" spc="-1" strike="noStrike">
              <a:solidFill>
                <a:srgbClr val="000000"/>
              </a:solidFill>
              <a:latin typeface="Arial"/>
            </a:endParaRPr>
          </a:p>
        </p:txBody>
      </p:sp>
      <p:sp>
        <p:nvSpPr>
          <p:cNvPr id="18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ocumentation is well organiz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ocumentation is specified and detail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ocumentation is accurate</a:t>
            </a:r>
            <a:endParaRPr b="0" lang="en-US" sz="3200" spc="-1" strike="noStrike">
              <a:solidFill>
                <a:srgbClr val="000000"/>
              </a:solidFill>
              <a:latin typeface="Arial"/>
            </a:endParaRPr>
          </a:p>
        </p:txBody>
      </p:sp>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5F35-E99F-45CA-91BF-68C586A72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of Testability - 1</a:t>
            </a:r>
            <a:endParaRPr b="0" lang="en-US" sz="4400" spc="-1" strike="noStrike">
              <a:solidFill>
                <a:srgbClr val="000000"/>
              </a:solidFill>
              <a:latin typeface="Arial"/>
            </a:endParaRPr>
          </a:p>
        </p:txBody>
      </p:sp>
      <p:sp>
        <p:nvSpPr>
          <p:cNvPr id="19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racteristics we have discussed just are fundamental for software testers to efficiently and effectively perform software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l belong to the different developmental stages of software engineering process</a:t>
            </a:r>
            <a:endParaRPr b="0" lang="en-US" sz="32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9724-1973-4C6E-B9A1-FA339A368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of Testability - 2</a:t>
            </a:r>
            <a:endParaRPr b="0" lang="en-US" sz="4400" spc="-1" strike="noStrike">
              <a:solidFill>
                <a:srgbClr val="000000"/>
              </a:solidFill>
              <a:latin typeface="Arial"/>
            </a:endParaRPr>
          </a:p>
        </p:txBody>
      </p:sp>
      <p:sp>
        <p:nvSpPr>
          <p:cNvPr id="19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haracteristics clearly indicate that in order to have good software testing, best practices should be used in all activities of software engineering life cycle to develop software product, otherwise, we will end up with a product which is difficult to test</a:t>
            </a:r>
            <a:endParaRPr b="0" lang="en-US" sz="32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BB93-5444-46AF-9561-7AB4FD56C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D46B-1BE7-45ED-87F2-F7702B8AB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ributes of a Good Test</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test has a high probability of finding an err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test is not redunda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test should be “best of bre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test should be neither too simple nor too compl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Objectives</a:t>
            </a:r>
            <a:endParaRPr b="0" lang="en-US" sz="44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is a process of executing a program with the intent of finding an err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test case is one that has a high probability of finding an as-yet-undiscovered err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ccessful test is one that uncovers an as- yet-undiscovered error</a:t>
            </a:r>
            <a:endParaRPr b="0" lang="en-US" sz="3200" spc="-1" strike="noStrike">
              <a:solidFill>
                <a:srgbClr val="000000"/>
              </a:solidFill>
              <a:latin typeface="Arial"/>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AEF9-DB46-4D4C-8F26-02AF28449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ood test has a high probability of finding an error</a:t>
            </a:r>
            <a:endParaRPr b="0" lang="en-US" sz="4400" spc="-1" strike="noStrike">
              <a:solidFill>
                <a:srgbClr val="000000"/>
              </a:solidFill>
              <a:latin typeface="Arial"/>
            </a:endParaRPr>
          </a:p>
        </p:txBody>
      </p:sp>
      <p:sp>
        <p:nvSpPr>
          <p:cNvPr id="20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er must understand the software and attempt to develop a mental picture of how the software might fai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the classes of failure are probed and a set of tests should be designed to show that software fails in a particular situation</a:t>
            </a:r>
            <a:endParaRPr b="0" lang="en-US" sz="3200" spc="-1" strike="noStrike">
              <a:solidFill>
                <a:srgbClr val="000000"/>
              </a:solidFill>
              <a:latin typeface="Arial"/>
            </a:endParaRPr>
          </a:p>
        </p:txBody>
      </p:sp>
      <p:sp>
        <p:nvSpPr>
          <p:cNvPr id="2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AA0C-7532-421D-BF01-219C434A0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ood test is not redundant</a:t>
            </a:r>
            <a:endParaRPr b="0" lang="en-US" sz="4400" spc="-1" strike="noStrike">
              <a:solidFill>
                <a:srgbClr val="000000"/>
              </a:solidFill>
              <a:latin typeface="Arial"/>
            </a:endParaRPr>
          </a:p>
        </p:txBody>
      </p:sp>
      <p:sp>
        <p:nvSpPr>
          <p:cNvPr id="20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time and resources are limited and there is no point in conducting a test that has the same purpose as another te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test should have a different purpose, even if it subtly different</a:t>
            </a:r>
            <a:endParaRPr b="0" lang="en-US" sz="3200" spc="-1" strike="noStrike">
              <a:solidFill>
                <a:srgbClr val="000000"/>
              </a:solidFill>
              <a:latin typeface="Arial"/>
            </a:endParaRPr>
          </a:p>
        </p:txBody>
      </p:sp>
      <p:sp>
        <p:nvSpPr>
          <p:cNvPr id="2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6A9D-609F-421A-B2A5-359FB5606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ood test should be ‘best of breed’</a:t>
            </a:r>
            <a:endParaRPr b="0" lang="en-US" sz="4400" spc="-1" strike="noStrike">
              <a:solidFill>
                <a:srgbClr val="000000"/>
              </a:solidFill>
              <a:latin typeface="Arial"/>
            </a:endParaRPr>
          </a:p>
        </p:txBody>
      </p:sp>
      <p:sp>
        <p:nvSpPr>
          <p:cNvPr id="20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group of tests that have a similar intent, time and resource limitations may force us to execute only a subset of these tests. In such cases, the tests that has the highest likelihood of uncovering a whole class of errors should be used</a:t>
            </a:r>
            <a:endParaRPr b="0" lang="en-US" sz="3200" spc="-1" strike="noStrike">
              <a:solidFill>
                <a:srgbClr val="000000"/>
              </a:solidFill>
              <a:latin typeface="Arial"/>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FD97-59B8-40D9-8896-ADB4E512C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ood test should be neither too simple nor too complex</a:t>
            </a:r>
            <a:endParaRPr b="0" lang="en-US" sz="4400" spc="-1" strike="noStrike">
              <a:solidFill>
                <a:srgbClr val="000000"/>
              </a:solidFill>
              <a:latin typeface="Arial"/>
            </a:endParaRPr>
          </a:p>
        </p:txBody>
      </p:sp>
      <p:sp>
        <p:nvSpPr>
          <p:cNvPr id="20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each test should be executed separately, instead of being combined with many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ests are combined into one test, this can result in masking of errors</a:t>
            </a:r>
            <a:endParaRPr b="0" lang="en-US" sz="3200" spc="-1" strike="noStrike">
              <a:solidFill>
                <a:srgbClr val="000000"/>
              </a:solidFill>
              <a:latin typeface="Arial"/>
            </a:endParaRPr>
          </a:p>
        </p:txBody>
      </p:sp>
      <p:sp>
        <p:nvSpPr>
          <p:cNvPr id="2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E2BC-BA4D-49DE-A766-937EC4AE4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 Design - 1</a:t>
            </a:r>
            <a:endParaRPr b="0" lang="en-US" sz="4400" spc="-1" strike="noStrike">
              <a:solidFill>
                <a:srgbClr val="000000"/>
              </a:solidFill>
              <a:latin typeface="Arial"/>
            </a:endParaRPr>
          </a:p>
        </p:txBody>
      </p:sp>
      <p:sp>
        <p:nvSpPr>
          <p:cNvPr id="212"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of tests for software and other engineered products can be as challenging as the initial design of the product itself</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many software engineers treat testing as an afterthought, developing test cases that may “feel right” but have little assurance of being complete</a:t>
            </a:r>
            <a:endParaRPr b="0" lang="en-US" sz="3200" spc="-1" strike="noStrike">
              <a:solidFill>
                <a:srgbClr val="000000"/>
              </a:solidFill>
              <a:latin typeface="Arial"/>
            </a:endParaRPr>
          </a:p>
        </p:txBody>
      </p:sp>
      <p:sp>
        <p:nvSpPr>
          <p:cNvPr id="2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02C7-8EBD-433D-8FA3-0F56F5B32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 Design - 2</a:t>
            </a:r>
            <a:endParaRPr b="0" lang="en-US" sz="4400" spc="-1" strike="noStrike">
              <a:solidFill>
                <a:srgbClr val="000000"/>
              </a:solidFill>
              <a:latin typeface="Arial"/>
            </a:endParaRPr>
          </a:p>
        </p:txBody>
      </p:sp>
      <p:sp>
        <p:nvSpPr>
          <p:cNvPr id="215"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ich variety of test case design methods have evolved for software, which provide the developer with a systematic approach to testing</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mportant, methods provide a mechanism that can help to ensure the completeness of tests and provide the highest likelihood for uncovering errors in software</a:t>
            </a:r>
            <a:endParaRPr b="0" lang="en-US" sz="3200" spc="-1" strike="noStrike">
              <a:solidFill>
                <a:srgbClr val="000000"/>
              </a:solidFill>
              <a:latin typeface="Arial"/>
            </a:endParaRPr>
          </a:p>
        </p:txBody>
      </p:sp>
      <p:sp>
        <p:nvSpPr>
          <p:cNvPr id="2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FF6B-86B8-44AA-8AB2-C3FEAC6FD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 Design - 3</a:t>
            </a:r>
            <a:endParaRPr b="0" lang="en-US" sz="4400" spc="-1" strike="noStrike">
              <a:solidFill>
                <a:srgbClr val="000000"/>
              </a:solidFill>
              <a:latin typeface="Arial"/>
            </a:endParaRPr>
          </a:p>
        </p:txBody>
      </p:sp>
      <p:sp>
        <p:nvSpPr>
          <p:cNvPr id="21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engineered product can be tested in one of two way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 specified function that a product has been designed to perfo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 internal workings of a product</a:t>
            </a:r>
            <a:endParaRPr b="0" lang="en-US" sz="28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E9C6-4315-43D0-BD04-E31EF2BF4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ase Design - 4</a:t>
            </a:r>
            <a:endParaRPr b="0" lang="en-US" sz="4400" spc="-1" strike="noStrike">
              <a:solidFill>
                <a:srgbClr val="000000"/>
              </a:solidFill>
              <a:latin typeface="Arial"/>
            </a:endParaRPr>
          </a:p>
        </p:txBody>
      </p:sp>
      <p:sp>
        <p:nvSpPr>
          <p:cNvPr id="221"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rst case, tests can be conducted that demonstrate each function is fully operational while at the same time searching for errors in each function</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second case, tests can be conducted to ensure that internal operations are performed according to the specifications and all internal components have been adequately exercised</a:t>
            </a:r>
            <a:endParaRPr b="0" lang="en-US" sz="3200" spc="-1" strike="noStrike">
              <a:solidFill>
                <a:srgbClr val="000000"/>
              </a:solidFill>
              <a:latin typeface="Arial"/>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2B21-D96A-43B3-8A3C-3DDD954E0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24"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ve continued our discussion on software testing, and specifically we have talked about testing principles and characteristics of testable software products</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start our discussion on test case design methods and testing techniques starting next lecture</a:t>
            </a:r>
            <a:endParaRPr b="0" lang="en-US" sz="3200" spc="-1" strike="noStrike">
              <a:solidFill>
                <a:srgbClr val="000000"/>
              </a:solidFill>
              <a:latin typeface="Arial"/>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3BAA-E4B7-40B2-9834-2B77C978B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2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A Practitioner’s Approach 5</a:t>
            </a:r>
            <a:r>
              <a:rPr b="0" lang="en-US" sz="3200" spc="-1" strike="noStrike" baseline="30000">
                <a:solidFill>
                  <a:srgbClr val="000000"/>
                </a:solidFill>
                <a:latin typeface="Arial"/>
              </a:rPr>
              <a:t>th</a:t>
            </a:r>
            <a:r>
              <a:rPr b="0" lang="en-US" sz="3200" spc="-1" strike="noStrike">
                <a:solidFill>
                  <a:srgbClr val="000000"/>
                </a:solidFill>
                <a:latin typeface="Arial"/>
              </a:rPr>
              <a:t> Edition by Roger S. Pressman (Chapter 17.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B0B3-BB6C-4907-9173-5E69AA7CD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objectives imply a dramatic change in viewpoint. They move counter to the commonly held view that a successful test is one in which no errors are found. Our objective is to design tests that systematically uncover different classes of errors and to do so with a minimum amount of time and effort</a:t>
            </a:r>
            <a:endParaRPr b="0" lang="en-US" sz="3200" spc="-1" strike="noStrike">
              <a:solidFill>
                <a:srgbClr val="000000"/>
              </a:solidFill>
              <a:latin typeface="Arial"/>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740C-EA31-4DAD-9D56-B2BCF745D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esting is conducted successfully, it will uncover errors in the software, and as a secondary benefit, testing demonstrates that software functions appear to be working according to specification, that behavioral and performance requirements appear to have been met</a:t>
            </a:r>
            <a:endParaRPr b="0" lang="en-US" sz="3200" spc="-1" strike="noStrike">
              <a:solidFill>
                <a:srgbClr val="000000"/>
              </a:solidFill>
              <a:latin typeface="Arial"/>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AE95-A0C8-4784-9DC4-F4891DE90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ed as a result of testing can provide a good indication of software reliability and some indication of the software quality as a who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a:t>
            </a:r>
            <a:r>
              <a:rPr b="0" lang="en-US" sz="3200" spc="-1" strike="noStrike">
                <a:solidFill>
                  <a:srgbClr val="ff0000"/>
                </a:solidFill>
                <a:latin typeface="Arial"/>
              </a:rPr>
              <a:t>cannot</a:t>
            </a:r>
            <a:r>
              <a:rPr b="0" lang="en-US" sz="3200" spc="-1" strike="noStrike">
                <a:solidFill>
                  <a:srgbClr val="000000"/>
                </a:solidFill>
                <a:latin typeface="Arial"/>
              </a:rPr>
              <a:t> show absence of errors and defects, it can show only that software errors and defects are present</a:t>
            </a:r>
            <a:endParaRPr b="0" lang="en-US" sz="3200" spc="-1" strike="noStrike">
              <a:solidFill>
                <a:srgbClr val="000000"/>
              </a:solidFill>
              <a:latin typeface="Arial"/>
            </a:endParaRPr>
          </a:p>
        </p:txBody>
      </p:sp>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A72E-CAE3-4457-9FF7-02BB16C33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now discuss the basic principles that guide software testing</a:t>
            </a:r>
            <a:endParaRPr b="0" lang="en-US" sz="3200" spc="-1" strike="noStrike">
              <a:solidFill>
                <a:srgbClr val="000000"/>
              </a:solidFill>
              <a:latin typeface="Arial"/>
            </a:endParaRPr>
          </a:p>
        </p:txBody>
      </p:sp>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6D25-AB67-47DF-969E-0BC12B8BA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10A2-C7F5-4C3D-B825-B2E64F8B7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Principles - 1</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fontScale="90000"/>
          </a:bodyPr>
          <a:p>
            <a:pPr marL="308520" indent="-308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ests should be traceable to customer requirements</a:t>
            </a:r>
            <a:endParaRPr b="0" lang="en-US" sz="3200" spc="-1" strike="noStrike">
              <a:solidFill>
                <a:srgbClr val="000000"/>
              </a:solidFill>
              <a:latin typeface="Arial"/>
            </a:endParaRPr>
          </a:p>
          <a:p>
            <a:pPr lvl="1" marL="668520" indent="-2570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of software testing is to find defects. It follows that the most severe defects are those that cause systems to fail to meet their requirements</a:t>
            </a:r>
            <a:endParaRPr b="0" lang="en-US" sz="2800" spc="-1" strike="noStrike">
              <a:solidFill>
                <a:srgbClr val="000000"/>
              </a:solidFill>
              <a:latin typeface="Arial"/>
            </a:endParaRPr>
          </a:p>
          <a:p>
            <a:pPr marL="308520" indent="-308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should be planned long before testing begins</a:t>
            </a:r>
            <a:endParaRPr b="0" lang="en-US" sz="3200" spc="-1" strike="noStrike">
              <a:solidFill>
                <a:srgbClr val="000000"/>
              </a:solidFill>
              <a:latin typeface="Arial"/>
            </a:endParaRPr>
          </a:p>
          <a:p>
            <a:pPr lvl="1" marL="668520" indent="-2570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planning can begin as soon as the requirements model is comp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Principles - 2</a:t>
            </a:r>
            <a:endParaRPr b="0" lang="en-US" sz="4400" spc="-1" strike="noStrike">
              <a:solidFill>
                <a:srgbClr val="000000"/>
              </a:solidFill>
              <a:latin typeface="Arial"/>
            </a:endParaRPr>
          </a:p>
        </p:txBody>
      </p:sp>
      <p:sp>
        <p:nvSpPr>
          <p:cNvPr id="137" name=""/>
          <p:cNvSpPr txBox="1"/>
          <p:nvPr/>
        </p:nvSpPr>
        <p:spPr>
          <a:xfrm>
            <a:off x="457200" y="1980720"/>
            <a:ext cx="8229600" cy="3886200"/>
          </a:xfrm>
          <a:prstGeom prst="rect">
            <a:avLst/>
          </a:prstGeom>
          <a:noFill/>
          <a:ln w="0">
            <a:noFill/>
          </a:ln>
        </p:spPr>
        <p:txBody>
          <a:bodyPr anchor="t">
            <a:normAutofit fontScale="91000"/>
          </a:bodyPr>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eto (80-20) principle applies to software testing</a:t>
            </a:r>
            <a:endParaRPr b="0" lang="en-US" sz="3200" spc="-1" strike="noStrike">
              <a:solidFill>
                <a:srgbClr val="000000"/>
              </a:solidFill>
              <a:latin typeface="Arial"/>
            </a:endParaRPr>
          </a:p>
          <a:p>
            <a:pPr lvl="1" marL="676080" indent="-25992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0% of all defects found will likely be traced to 20% of modules. These error-prone modules should be isolated and tested thoroughly</a:t>
            </a:r>
            <a:endParaRPr b="0" lang="en-US" sz="2600" spc="-1" strike="noStrike">
              <a:solidFill>
                <a:srgbClr val="000000"/>
              </a:solidFill>
              <a:latin typeface="Arial"/>
            </a:endParaRPr>
          </a:p>
          <a:p>
            <a:pPr marL="312120" indent="-3121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ing should begin “in the small” and progress toward testing “in the large”</a:t>
            </a:r>
            <a:endParaRPr b="0" lang="en-US" sz="3200" spc="-1" strike="noStrike">
              <a:solidFill>
                <a:srgbClr val="000000"/>
              </a:solidFill>
              <a:latin typeface="Arial"/>
            </a:endParaRPr>
          </a:p>
          <a:p>
            <a:pPr lvl="1" marL="676080" indent="-25992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tests planned and executed focus on individual components. As testing progresses, focus shifts to integrated clusters of components</a:t>
            </a:r>
            <a:endParaRPr b="0" lang="en-US" sz="2600" spc="-1" strike="noStrike">
              <a:solidFill>
                <a:srgbClr val="000000"/>
              </a:solidFill>
              <a:latin typeface="Arial"/>
            </a:endParaRPr>
          </a:p>
          <a:p>
            <a:pPr marL="312120" indent="-31212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D2EF-9A4D-46D8-8364-41817D7EB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5-30T04:47:52Z</dcterms:modified>
  <cp:revision>165</cp:revision>
  <dc:subject/>
  <dc:title>Software Quality Assurance and Testing</dc:title>
</cp:coreProperties>
</file>